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974-E7B5-4917-A593-DE5705CA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F1BE-1E28-4156-A00E-7AE40A91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078-A156-455D-8AAE-3AA0D647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706E-CFC5-41F8-98E5-BF1AFB59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8A85-837A-4054-B06B-D2686C02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E0D0-DDD8-44E1-BEDE-923693C4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5787-EF13-41F0-8E32-EA418292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3E7-C875-4A4F-9207-9E30AC41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896-0065-4C13-9763-96D8377F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183-EC8B-4244-AD69-9F05A0F9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519-DFC7-4F1C-BBD8-64C4E1C0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22D0-F838-4E20-B539-1E14804F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D4F8-6F15-4113-A4AA-28F90EBDE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0" y="-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8838720" y="-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6491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39080" y="6491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3:11:21Z</dcterms:created>
  <dc:creator>nsmith</dc:creator>
  <dc:description/>
  <dc:language>en-US</dc:language>
  <cp:lastModifiedBy>lhs-lmc</cp:lastModifiedBy>
  <dcterms:modified xsi:type="dcterms:W3CDTF">2010-04-19T17:09:47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